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the template for reference for Sandra and for Er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 and Mary might want to have them use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ue is about the mathematics (the wh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llow is about process expectations (the how of their ability to support the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ccess criteria does not need to be all of thes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owledge and Understanding always has to be present, which process you focus on to support the knowledge and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fferent learning goals, success criteria, consolidating questions even though we are using the sam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C6E-12C0-4773-B8E6-E84A1717168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E507-4C0B-4EB7-AC83-7294D2D9F55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ole group discussi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A0AD-BC1F-4EB5-9D11-5CD55B548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C98A-4D38-46DC-A93D-9FE714D02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343F-F883-4B1B-A3D3-EBF863776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E30A-7081-41E7-BD63-81938B186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DB60-4BE7-47FE-B0AB-6FED38303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84C4-EE0F-48EE-8E08-3C90BA649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B10E-3554-4C04-94BE-EF1C183E1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324E-478C-4A67-8E3D-B07167CD8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50BC-D93D-4EEE-B929-EE9D6F62D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E7E9-C63B-451A-929C-E46275CBF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A0A3-786D-4194-8C2A-13BD7F6CF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514C-6FFC-427D-9893-152ED6173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1D7-FCBC-4B75-A079-423349A663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E8D6-3E08-451A-A212-73C7295130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es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hart paper, de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ectation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7058-B49E-46C2-AF3F-C60AFE9C50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133720"/>
                <a:gridCol w="1401840"/>
                <a:gridCol w="807840"/>
                <a:gridCol w="1828800"/>
                <a:gridCol w="381240"/>
                <a:gridCol w="22860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04F9-F6D9-4839-90B2-03D9C4CD15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are you looking for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answer to the table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B266-946A-4EAB-A9DD-BF965A3D06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etermine what a good consolidating question would be to determine that your learning goal has been rea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0672-099A-456E-B6B7-0472F621B0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wi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chart papers with anothe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y similar? 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CD0-75CC-49C1-BDB2-3E66AB0DD3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0F3B-867C-4C46-A775-0FE3E92F58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EBB9-3B1F-4680-B6F7-607ED9790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AAC2-0179-4E6E-9332-E9CD5485B5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pattern where the number of tiles in position number 3 is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735-FC14-44DB-925A-455FE6167A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01E2-BE92-4F43-9140-798DE537BD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ur 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different representations of patterns and discover that different representations bring about different mathema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erience creating learning goals, success criteria and consolidat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9BD-19A6-4406-81FF-32B88AA46E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408C-FC2C-4B95-8F4F-69BC2206A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ack to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handout indivi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with your table when everyone has fini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16F4-E18C-48E8-BB31-853C03E5AA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see the pattern both numerically &amp; geomet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ended to think about patterns additively…by the end of tonight’s session, I was much quicker at seeing multiplicativ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55CB-1F5D-4F89-9278-ACA195AF92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collaborative learning community to engage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ed time to discuss and explore the mathematics (teachers observe &amp; li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ing questions is better than answering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8BD8-BD79-4FB8-A7C6-F468B6F9BF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ED49-730B-48EC-B99A-8994429F2F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27D-F1E8-49F1-A115-4B18B9989A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436-F5C6-4EE8-A551-A753E9AED7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E:\Beach Images\Beach &amp; Water (K - P)\Man with Toy Boat.wmf"/>
          <p:cNvPicPr/>
          <p:nvPr/>
        </p:nvPicPr>
        <p:blipFill>
          <a:blip r:embed="rId1"/>
          <a:stretch/>
        </p:blipFill>
        <p:spPr>
          <a:xfrm>
            <a:off x="2235240" y="2303640"/>
            <a:ext cx="4672080" cy="225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:\Beach Images\Landscapes (A - Ci)\Beach Scene 27.wmf"/>
          <p:cNvPicPr/>
          <p:nvPr/>
        </p:nvPicPr>
        <p:blipFill>
          <a:blip r:embed="rId2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ard So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receiving a card which contains a representation of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 is to find all the people that have a different representation of your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which representation you find the most clear and which ones you are the most/least comfortabl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ABCF-8A49-49CD-9BF5-4E5A4FA6E2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our learning goal was for the card s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we achiev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03B3-3712-4F57-A4F3-E2793D62C3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E:\Beach Images\Beach &amp; Water (K - P)\Kayaking - No Paddle.wmf"/>
          <p:cNvPicPr/>
          <p:nvPr/>
        </p:nvPicPr>
        <p:blipFill>
          <a:blip r:embed="rId2"/>
          <a:stretch/>
        </p:blipFill>
        <p:spPr>
          <a:xfrm>
            <a:off x="4495680" y="2590920"/>
            <a:ext cx="265752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Table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w you would solve the problem on your own (3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 up and solve the problem in 2 different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29A-7AC4-4561-AF11-366647F07A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3962520" y="3886200"/>
            <a:ext cx="2882520" cy="1359000"/>
            <a:chOff x="3962520" y="3886200"/>
            <a:chExt cx="2882520" cy="1359000"/>
          </a:xfrm>
        </p:grpSpPr>
        <p:sp>
          <p:nvSpPr>
            <p:cNvPr id="89" name="AutoShape 17"/>
            <p:cNvSpPr/>
            <p:nvPr/>
          </p:nvSpPr>
          <p:spPr>
            <a:xfrm>
              <a:off x="416556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flipV="1">
              <a:off x="5245200" y="4203720"/>
              <a:ext cx="1447560" cy="698400"/>
            </a:xfrm>
            <a:custGeom>
              <a:avLst/>
              <a:gdLst>
                <a:gd name="textAreaLeft" fmla="*/ 301320 w 1447560"/>
                <a:gd name="textAreaRight" fmla="*/ 1146240 w 1447560"/>
                <a:gd name="textAreaTop" fmla="*/ 145440 h 698400"/>
                <a:gd name="textAreaBottom" fmla="*/ 552960 h 69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9"/>
            <p:cNvSpPr/>
            <p:nvPr/>
          </p:nvSpPr>
          <p:spPr>
            <a:xfrm>
              <a:off x="3962520" y="449568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0"/>
            <p:cNvSpPr/>
            <p:nvPr/>
          </p:nvSpPr>
          <p:spPr>
            <a:xfrm>
              <a:off x="4749840" y="499104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1"/>
            <p:cNvSpPr/>
            <p:nvPr/>
          </p:nvSpPr>
          <p:spPr>
            <a:xfrm>
              <a:off x="5524560" y="5016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2"/>
            <p:cNvSpPr/>
            <p:nvPr/>
          </p:nvSpPr>
          <p:spPr>
            <a:xfrm>
              <a:off x="6210360" y="50166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3"/>
            <p:cNvSpPr/>
            <p:nvPr/>
          </p:nvSpPr>
          <p:spPr>
            <a:xfrm>
              <a:off x="6629400" y="43686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"/>
            <p:cNvSpPr/>
            <p:nvPr/>
          </p:nvSpPr>
          <p:spPr>
            <a:xfrm>
              <a:off x="4419720" y="3924000"/>
              <a:ext cx="215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5"/>
            <p:cNvSpPr/>
            <p:nvPr/>
          </p:nvSpPr>
          <p:spPr>
            <a:xfrm>
              <a:off x="5092560" y="3911400"/>
              <a:ext cx="2160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6"/>
            <p:cNvSpPr/>
            <p:nvPr/>
          </p:nvSpPr>
          <p:spPr>
            <a:xfrm>
              <a:off x="5918400" y="3886200"/>
              <a:ext cx="21564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8" descr="E:\Beach Images\Landscapes (A - Ci)\Beach Scene 27.wmf"/>
          <p:cNvPicPr/>
          <p:nvPr/>
        </p:nvPicPr>
        <p:blipFill>
          <a:blip r:embed="rId1"/>
          <a:stretch/>
        </p:blipFill>
        <p:spPr>
          <a:xfrm>
            <a:off x="7620120" y="152280"/>
            <a:ext cx="1523880" cy="13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18T23:49:15Z</dcterms:modified>
  <cp:revision>60</cp:revision>
  <dc:subject/>
  <dc:title>&lt;Title&gt;</dc:title>
</cp:coreProperties>
</file>